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D2E-2897-4EF7-836A-3EBF28E3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AEE-CE16-48FA-994F-66FFE49A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5C3-39C3-4B8C-A45A-42ACC122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FE0-75DD-4A19-9AD0-7709ED87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73A4-6F87-4275-8CCA-313AD0EB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229E-0580-48D5-824B-7CC865F9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689C-F8EA-428B-9302-8128C2DB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213E-33F4-4488-A55E-39C90899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EFA7-9548-4D42-BDC8-B3E60CAE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ADA9-1C7F-480B-9F4C-C6261BDB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AA2D-B1CF-490A-8486-DC4BAEBF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DA5-4F6F-46D6-8C6E-E15C1C63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B740-CE5A-47D1-869B-8D08F739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4A66-5CAD-4FCE-B13E-6F0568F6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DBEC-794F-48D8-A0CE-C046F08D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F381-FADD-4571-BD98-1693513A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E0C9-86B9-4EB8-802D-73F3738B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1934-432A-4688-8D44-7B200AB4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A3BB8-3966-4D02-9A86-A9D7FB04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01630-E56B-4D46-878C-08474611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5F42-7287-4F97-8410-F74F437A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BE86-A729-4D03-B791-E4D69012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CC6-4C36-497D-9AB1-D597A338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47A9-91CC-4B8F-8EA8-8959F848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DA9F-52CA-44D4-9956-173CF1A5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1D1FD-EC9E-462C-808B-28AD417E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2B3EE-6F6A-4E4F-B2BD-9AA259AB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ED95C-6D3A-42AB-92B4-880BC5C1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3D87-3610-4533-BED2-E48CCB5A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F213F-43FD-4C25-A977-067612D8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3744C-7089-4FB0-BDD1-7126D4D1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6F414-E061-4F99-B6E7-F5881EFB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18E8C-81F8-4386-8A5F-2A1A05EC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5C9-0352-4D39-8596-58C938C0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24D28-BC17-43DC-A7F9-C9518357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8582-5B96-4400-8FC7-8FE7435B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1C383-D115-450E-8F0B-D4D6187B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BEBF2-31E7-42DB-B420-2BAE1E20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D2C3-C1CA-4324-B7A5-E25E1B4F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BF9EC-987E-4532-AB25-4E390BC5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41DD7-2272-47A1-805A-E8FDD88E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3C5DB-0977-4840-9831-64E99545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3734-9398-4B15-9AC6-869A81A8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EE735-16F6-4172-856D-5773D79F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94D-69D1-4F35-A5B6-9D7A3DD1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4662A-D2DB-4604-A344-7718F5CA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F65AE-6032-400B-B180-D872AD4D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1228B-04B0-4039-B337-7BA6BE22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D1952-3A5A-4768-B75F-B0BFB60E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80DB-763D-4B89-B938-7F52135D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D4A10-97AA-477A-8F47-F0256390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0EB18-DC4B-410D-AE75-7DCC44EC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D754F-258D-4164-9DE0-FBBACAB1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53F99-D674-456D-8187-F4844093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2011F-5A39-4AC8-B931-4892FC5B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61C-C114-4E99-A9CF-F44696E1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4CF74-D1D9-44FA-BF7C-2C4F2EF0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984-6344-4C10-B50E-87A773B5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17FE-0393-4D30-B752-BF1F98D9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363-167B-4B8B-A9E0-DDF8CA86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364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0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8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0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421F3-EF23-4F91-854D-C7DC6AE610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6360" y="6886080"/>
            <a:ext cx="23335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13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A8708-7D85-4E65-90B8-6B62B52D5AF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0596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9280" y="1767960"/>
            <a:ext cx="88059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39640" y="6996240"/>
            <a:ext cx="23241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71480" y="6996240"/>
            <a:ext cx="316692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7440" y="6996240"/>
            <a:ext cx="23241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DAB62-A3E4-4A14-946C-E97D0FBB2A7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335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13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95271-6887-4835-8D63-9427535E912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65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3280" y="6670800"/>
            <a:ext cx="233352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7720" y="6670800"/>
            <a:ext cx="318132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360" y="6670800"/>
            <a:ext cx="2333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4029B-95C9-4C2A-97F7-BF52756D5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4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cholastic.com/teachers/contributor/j-k-rowling" TargetMode="External"/><Relationship Id="rId3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cholastic.com/teachers/contributor/j-k-rowling" TargetMode="External"/><Relationship Id="rId3" Type="http://schemas.openxmlformats.org/officeDocument/2006/relationships/hyperlink" Target="http://www.jkrowling.com/en_US/" TargetMode="External"/><Relationship Id="rId4" Type="http://schemas.openxmlformats.org/officeDocument/2006/relationships/hyperlink" Target="http://www.jkrowling.com/en_US/#/about-jk-rowling" TargetMode="External"/><Relationship Id="rId5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cholastic.com/teachers/article/j-k-rowling-interview" TargetMode="External"/><Relationship Id="rId3" Type="http://schemas.openxmlformats.org/officeDocument/2006/relationships/hyperlink" Target="http://www.scholastic.com/teachers/article/j-k-rowling" TargetMode="External"/><Relationship Id="rId4" Type="http://schemas.openxmlformats.org/officeDocument/2006/relationships/hyperlink" Target="http://www.biography.com/people/jk-rowling-40998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03280" y="1768320"/>
            <a:ext cx="442584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2724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2495520" cy="3429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600200" y="28440"/>
            <a:ext cx="70866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333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66"/>
                </a:solidFill>
                <a:latin typeface="Arial Black"/>
              </a:rPr>
              <a:t>The Great ...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66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228600"/>
            <a:ext cx="3600360" cy="36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ArchDownPour">
              <a:avLst>
                <a:gd name="adj1" fmla="val 480000"/>
                <a:gd name="adj2" fmla="val 4197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J.K. Rowling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029200" y="18288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By. Halie Tyre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670280" y="3429000"/>
            <a:ext cx="4473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61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Time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15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4114800"/>
            <a:ext cx="8915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600200" y="228600"/>
            <a:ext cx="68580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More Time Line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38862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3429000"/>
            <a:ext cx="685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572000"/>
            <a:ext cx="1371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d a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38862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3657600"/>
            <a:ext cx="1143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4800600"/>
            <a:ext cx="914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d a daugh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114800" y="3425400"/>
            <a:ext cx="1440" cy="692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2971800"/>
            <a:ext cx="914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4572000"/>
            <a:ext cx="2514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 FOR THE TIM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tures of the Harry Potter boo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16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343400" cy="20574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146560" y="1768320"/>
            <a:ext cx="442296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4114800"/>
            <a:ext cx="388620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ry Potter books 1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143000" y="6400800"/>
            <a:ext cx="2971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ry Potter boo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45120" y="1768320"/>
            <a:ext cx="442116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5943600" y="1698480"/>
            <a:ext cx="2286000" cy="1959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629400" y="3886200"/>
            <a:ext cx="27432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ry Potter book 2  the chamber of secr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6400800" y="4473720"/>
            <a:ext cx="2319480" cy="14698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172200" y="6400800"/>
            <a:ext cx="3200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ry Potter Book #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2920" y="304560"/>
            <a:ext cx="90615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pictures of the Harry Potter Boo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11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44760" y="1767960"/>
            <a:ext cx="44211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914400" y="1730520"/>
            <a:ext cx="3462480" cy="21556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85800" y="4114800"/>
            <a:ext cx="4114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ry Potter Book #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1143000" y="4473720"/>
            <a:ext cx="3005280" cy="1469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914400" y="6172200"/>
            <a:ext cx="3886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ry Potter Book #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5715000" y="182880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715000" y="4114800"/>
            <a:ext cx="38862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ry Potter Book # 6 The Half-Blooded Pr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5486400" y="4702320"/>
            <a:ext cx="3657600" cy="1698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486400" y="6629400"/>
            <a:ext cx="4114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ry Potter Book # 7 The Deathly Hol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390600"/>
            <a:ext cx="90597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1160" cy="4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44760" y="1767960"/>
            <a:ext cx="4421160" cy="4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29040" y="-20016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Harry Potter Book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1371600"/>
            <a:ext cx="4114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ere's The List Of Books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scholastic.com/teachers/contributor/j-k-row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jkrowling.com/en_U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jkrowling.com/en_US/#/about-jk-row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iography.com/people/jk-rowling-409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1430000" y="2286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5128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EAS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173040" y="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8ff"/>
                </a:solidFill>
                <a:latin typeface="Times New Roman"/>
              </a:rPr>
              <a:t>PLEAS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b8ff"/>
              </a:solidFill>
              <a:latin typeface="Times New Roman"/>
              <a:ea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731960"/>
            <a:ext cx="90676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0480" algn="ctr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SAVE YOUR QUESTIONS UNTIL THE END OF THE PRESENTATIO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-10080720" y="4572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3429000" y="714240"/>
            <a:ext cx="4343400" cy="2486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Pretty Pleas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2920" y="65736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n in 1965 at Yate General Hospital in Eng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grew up at Chespew ,G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went to </a:t>
            </a:r>
            <a:r>
              <a:rPr b="0" lang="en-US" sz="2400" spc="-1" strike="noStrike">
                <a:solidFill>
                  <a:srgbClr val="000000"/>
                </a:solidFill>
                <a:latin typeface="Narkisim"/>
              </a:rPr>
              <a:t>Wyed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reh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 went to Exeter University and earned a french and classics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 went to Paris for a year because she was requir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Jo was graduated as a postgrad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then moved to London to work at AI (Amnesty International)  doing research into human right  abuses in Francophone,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started the Harry Potter series while on a  London King's cross tr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next five years she outlined plots for all of the series books 1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800440" y="4856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8ff"/>
                </a:solidFill>
                <a:latin typeface="Times New Roman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8ff"/>
                </a:solidFill>
                <a:latin typeface="Times New Roman"/>
              </a:rPr>
              <a:t>Biography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b8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03280" y="1276200"/>
            <a:ext cx="906948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when she finished five years later she started writing Harry Potter and the Philosophers 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he then moved to Northern Portugal where she taught English as a  foreig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he married in October of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he had a daughter in 1993 and named her Jes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he returned to the UK when she divorced and lived in Edinburgh with Jes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arry Potter and the Philosophers Stone was  completed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n 1996 she received a of publication and said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xt summer the world knew Harry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he married in 2001 to Dr. Neil Murr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he had a baby boy in 2003 and named him Da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he then had a sister for David and Jessica in 2005 and named her Macken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714840" y="-200160"/>
            <a:ext cx="33717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More Biography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343400" cy="4705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2971800" y="284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p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800600" y="1828800"/>
            <a:ext cx="46004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284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imes New Roman"/>
              </a:rPr>
              <a:t>3 Skills th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Times New Roman"/>
              <a:ea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400640" y="-2286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Author Does Well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2920" y="61272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Voice-J. K. Rowling makes the Harry Potter books seem real in my head,I can hear voices when I read her boo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Vocabulary-Her  vocabulary in Harry Potter books are ama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Invented Language-Jo(J.K Rowling) invents types of classes like Occlum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6300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he interview click he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is interview is about her books all 7 so if you want to read the series don't lis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-200160"/>
            <a:ext cx="73152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Down">
              <a:avLst>
                <a:gd name="adj" fmla="val 1916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Tahoma"/>
              </a:rPr>
              <a:t>The Interview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Tahoma"/>
              <a:ea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486400" y="2743200"/>
            <a:ext cx="27432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picture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572000"/>
            <a:ext cx="1008072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click here for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5029200"/>
            <a:ext cx="469584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This is a video bography with a ph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5257800" y="4572000"/>
            <a:ext cx="4343400" cy="2057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146560" y="1768320"/>
            <a:ext cx="442296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568080"/>
            <a:ext cx="90662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's usually cold in England,Europe because it's close to the North Po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's stratus clouds usually every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-1771560"/>
            <a:ext cx="8458200" cy="36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ArchDownPour">
              <a:avLst>
                <a:gd name="adj1" fmla="val 480000"/>
                <a:gd name="adj2" fmla="val 4197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The Climat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52344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430000" y="4572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Timelin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200400" y="-20016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1715840" y="13716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Fontwork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00400" y="-20016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Time Lin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4114800"/>
            <a:ext cx="98521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914400" y="3647880"/>
            <a:ext cx="1440" cy="704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36576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3200400" y="6400800"/>
            <a:ext cx="9144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2828880"/>
            <a:ext cx="685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3320" y="4572000"/>
            <a:ext cx="951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2743200"/>
            <a:ext cx="685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887200" y="2570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Fontwork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4572000"/>
            <a:ext cx="1600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mar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886200" y="3647880"/>
            <a:ext cx="1440" cy="704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3200400"/>
            <a:ext cx="685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4800600"/>
            <a:ext cx="1371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d a d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486400" y="3647880"/>
            <a:ext cx="1440" cy="704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3200400"/>
            <a:ext cx="685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4572000"/>
            <a:ext cx="91440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ry Potter and the Sorcer  stone  wa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0" y="36576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3429000"/>
            <a:ext cx="1143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629400" y="4800600"/>
            <a:ext cx="114300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ld knew harry p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6576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772400" y="5029200"/>
            <a:ext cx="1828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married Dr. Neil 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3429000"/>
            <a:ext cx="1371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13:42:24Z</dcterms:created>
  <dc:creator/>
  <dc:description/>
  <dc:language>en-US</dc:language>
  <cp:lastModifiedBy/>
  <cp:revision>1</cp:revision>
  <dc:subject/>
  <dc:title/>
</cp:coreProperties>
</file>